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329E6F0-60A5-49AE-8A35-6642E988B9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062160" y="8840880"/>
            <a:ext cx="874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49F9EDF-4E06-486F-BD69-30066CCC9CB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A99E76-2978-4D8D-B65C-E703F713572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AE9D18-B2EA-44BD-B4AC-9A8A9FA5752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370F426-F095-4A9B-A490-A4E01C14BD7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BBA48B-7F18-4162-A26A-5EDC9021EDB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4D6C44-5062-4E2C-AF74-92790E27054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F650CB-7F7F-424D-A870-8AF90C44EA7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94485908-0D09-4DF7-A33D-4634C925265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721BFFAD-5D0E-487C-978F-D37A4BB19B9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26"/>
          <p:cNvSpPr/>
          <p:nvPr/>
        </p:nvSpPr>
        <p:spPr>
          <a:xfrm>
            <a:off x="1049400" y="1631880"/>
            <a:ext cx="78944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r>
              <a:rPr b="0" lang="en-US" sz="2800" spc="-1" strike="noStrike">
                <a:solidFill>
                  <a:srgbClr val="39536b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Exercise 9: Modified Checkbook Process </a:t>
            </a: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3100"/>
            </a:b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modified checkbook process to balance a check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on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data between exercises 7 and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Modified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 (modified in exercise 8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type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cess and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have added a review process and a checklist to the basic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720" y="1747440"/>
            <a:ext cx="76802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ad through the checkbook process scripts that you modified in exercise 8.  Make sure that your modifications are clear, and that you understand the activities for each ste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your modified checkbook process to balance the checkbook in the workbook for exercise 9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all process forms are completed, including the time log, defect log, and plan summ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:  transactions from exercise 7 are not included in this exerci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92480" y="60627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592440" y="571176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is exercise to the results from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do 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you spend in al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was this time distributed among the phas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balance the checkbook on your first tr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istakes did you ma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id you mak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total times for a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mbers of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compare balan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+ fix times for def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were not removed i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balances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use these ter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working definition f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7518240" y="538488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>
            <a:off x="7518240" y="386064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442040" y="2030400"/>
            <a:ext cx="2964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work % = 100 * X/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9"/>
          <p:cNvSpPr/>
          <p:nvPr/>
        </p:nvSpPr>
        <p:spPr>
          <a:xfrm>
            <a:off x="7518240" y="233676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93720" y="1496880"/>
            <a:ext cx="8140680" cy="49914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693720" y="295740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693720" y="463536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4381560" y="1496880"/>
            <a:ext cx="0" cy="499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cla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2067" descr=""/>
          <p:cNvPicPr/>
          <p:nvPr/>
        </p:nvPicPr>
        <p:blipFill>
          <a:blip r:embed="rId1"/>
          <a:stretch/>
        </p:blipFill>
        <p:spPr>
          <a:xfrm>
            <a:off x="2378160" y="1779480"/>
            <a:ext cx="6143400" cy="458784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4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calculation of rework compare to the previous iteration of the checkbook process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calculations of yield compare to the previous iteration of the checkbook process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distribution of defects injected and removed compare between the two iterations of the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identify any further improvements to the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2-06T15:19:28Z</cp:lastPrinted>
  <dcterms:modified xsi:type="dcterms:W3CDTF">2018-09-06T00:16:08Z</dcterms:modified>
  <cp:revision>130</cp:revision>
  <dc:subject/>
  <dc:title>No Slide Title</dc:title>
</cp:coreProperties>
</file>